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42C-92A6-4F4B-A90C-2509CA8D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7F2-7313-4A2F-8696-64D66FE9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DE1-EC84-4C7B-B6AA-348421C9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439-363F-40C7-9E10-94C8A344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CA3-7754-48A1-A286-15720ACA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226-AB40-4C0E-9606-04C79CB3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C95-5325-42CA-9487-914FEC42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E94-537D-48A1-B0BD-E3619E2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757-5EC6-4E65-BD13-431E8C27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9A7-0FD4-498A-9C9F-F268989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18C-3E5E-4A5B-9886-E52E49EB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603-C071-4651-AB29-6AA60DF7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AB2-00A1-4E06-83AF-3E94F72C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Safe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know what thes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38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1247760"/>
            <a:ext cx="46767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ymbols at Ho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95288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05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 do you know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5:39Z</dcterms:created>
  <dc:creator>User</dc:creator>
  <dc:description/>
  <dc:language>en-US</dc:language>
  <cp:lastModifiedBy>User</cp:lastModifiedBy>
  <dcterms:modified xsi:type="dcterms:W3CDTF">2010-09-13T16:47:12Z</dcterms:modified>
  <cp:revision>4</cp:revision>
  <dc:subject/>
  <dc:title>Classification of Matter</dc:title>
</cp:coreProperties>
</file>